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CAE-8C2B-4C79-8F7E-9B5C3BDC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B83-B66A-43CB-8C98-0EEB7F47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7E7-B6CC-4929-8861-194C7262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EDF-878D-482A-BFC9-50718CB6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BED-3C85-4643-AEEA-E907D12F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FDF-D849-4256-92FF-B99C743B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E2B-E25D-4632-833F-E4E4049E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1FF-61DE-48B0-BFF7-212BA62A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803-F476-4B7D-96B7-C1202343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B04-B801-43F7-8D02-7D3DE3ED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F61-28C7-482B-8FF4-3D6C3286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B40-5767-4577-A169-40440074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67CD-3DA9-40AA-93A1-6BE56ED36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22.cooltext.com/d.php?renderid=665729472&amp;extension=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northdakota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northdakota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flags/northdakota/northdakotaflag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Nick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3/19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Per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om.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838080"/>
            <a:ext cx="7467480" cy="1787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3809880" cy="346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6545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05520" y="609480"/>
            <a:ext cx="95040" cy="1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594360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states,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 North Dakota sta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song,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4/10/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-11160"/>
            <a:ext cx="861048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apital: Bismar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opulation: 6422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ate Entered: Nov. 2 18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umber Entered: 39/40 (Same day as South Dak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tto: Liberty and union, Now and forever, one and in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ickname: Peace/ Garde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lower: Wild Prairie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ird: Western Meadow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ng: North Dakota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eaning: Sioux Indian for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argest city: F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ree: American E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everage: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0"/>
            <a:ext cx="7543800" cy="54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410080"/>
            <a:ext cx="3429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North Dakota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,3/21/2012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northdako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5562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The Missouri river runs into Lake Sakakaw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867280" cy="4602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5720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Encha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learning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North Dakota Flag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,3/21/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ttp://www.enchantedlearning.com/usa/states/northdak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The flag is a bald eagle  holding 7 arrows and an oliv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991120" cy="3396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5791320"/>
            <a:ext cx="8076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FossilMania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Teredo wood,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 3/22/2012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www.texaspaleo.com/psa/fossilman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The state rock for north Dakota is Teredo 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ll images Copyright © 1997 - 2000 WriteLine. All Rights Reserved. Wind Canyon cliffs"/>
          <p:cNvPicPr/>
          <p:nvPr/>
        </p:nvPicPr>
        <p:blipFill>
          <a:blip r:embed="rId1"/>
          <a:stretch/>
        </p:blipFill>
        <p:spPr>
          <a:xfrm>
            <a:off x="1219320" y="990720"/>
            <a:ext cx="6019560" cy="4012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25780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North Dakota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,3/22/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ttp://www.postcardsfrom.com/t1/98082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This is the Missouri river, a great place for buffalos to g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4Z</dcterms:created>
  <dc:creator>install</dc:creator>
  <dc:description/>
  <dc:language>en-US</dc:language>
  <cp:lastModifiedBy>install</cp:lastModifiedBy>
  <dcterms:modified xsi:type="dcterms:W3CDTF">2012-04-16T13:04:39Z</dcterms:modified>
  <cp:revision>15</cp:revision>
  <dc:subject/>
  <dc:title>Slide 1</dc:title>
</cp:coreProperties>
</file>